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A39-B265-4C41-B9D8-52DCD2AA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9D4-9B92-4ACE-9F5E-5CE1B4D8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662-91D8-45E4-B2CF-C770245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24F-79CD-4375-86C0-D8B3814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379C-120E-4938-A6A4-72EF3937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F83F-AC06-4715-8DA8-F79D68C2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398-35AA-4ED6-AB78-91B7A71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8F62-1569-40C3-AAED-094F8E2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7F72-A915-45F5-AB2B-F9F7987F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E121-F2CC-4BC4-B1FF-A33C321F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25E7-AA13-45D3-8FEA-DB04549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8D-7F29-4822-AC5D-30765EAF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E1CC-5A79-4462-8471-1B79160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74C-C631-467C-8413-DE2BE18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4F2-985A-4DD0-8B80-D53E17BA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588-78E3-490E-B564-750CBC52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3DA0-2688-474D-9D9A-C20768A1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1B1-533D-41D0-845B-289DAB6D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CB0-745C-4CE8-B58C-1D572850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66A-E430-46C0-BC7B-AAAEA14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CD9-1DD6-4B5E-8EEC-5F2447AD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CAE-7139-4844-A256-B9B81E1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547-ECA3-46BB-A868-8FF3C64F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93D-9D9C-470F-B2E4-63DA14C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743-1766-4C0D-86B2-EE3F539B5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74AB-B84F-4277-9293-4FF3D9C3ADAB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edf.kg.ac.y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метаболизам и физиологиј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3"/>
          <p:cNvSpPr/>
          <p:nvPr/>
        </p:nvSpPr>
        <p:spPr>
          <a:xfrm>
            <a:off x="324000" y="189000"/>
            <a:ext cx="6408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цинск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нау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643800" y="5573880"/>
            <a:ext cx="25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4000680" cy="361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902200" y="537372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0840" y="0"/>
            <a:ext cx="10731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рачунавањ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A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за физичку 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FA (енергија за физичку активност) се израчунава множењем енергетске потрошње за одговарајућу врсту физичке активности (према тежини) са очекиваним временом трајање дате активности (табел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: 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аког рада (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0kcal) + 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мереног рада (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00 kcal)= 600+300 = 900k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225360" y="692280"/>
          <a:ext cx="8918640" cy="897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692280"/>
                    <a:ext cx="8918640" cy="897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рачунава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EF (термички ефекат хра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EF (термички ефекат хране) износи око 10% енергетске вредности хране, односно за 10% треба увећати потребну енергетску вредност 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ножити са 1.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имер: за задовољавање дневних енергетских потреба од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al треба унети 2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al да би нето ефекат био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о сада применимо формул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P = RMR + EFA + TEF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добија с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20 + 900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.1 = 31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сно дневне енергетске потреб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зносе о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285840" y="524196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5267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репорученим стандард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DA, Recommended Dietary Allowance)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пот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на за дневну потрошњу треба да буде обезбеђена из хранљивих материја у следећем одно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55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г енергетског уноса 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х хи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3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г енергетског уноса и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г енергетског уноса 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драслих особа потребе за беланчевинама изно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 g/kg TM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еце потребе за беланчевинама изно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 g/kg TM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4046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5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r>
              <a:rPr b="1" i="1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</a:rPr>
              <a:t> Одређивање потребних количина појединих врст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</a:rPr>
              <a:t>хранљивих материј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 унос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теи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овред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тни 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пи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 порек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 унос ма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омогућ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и однос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доминантн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шћем незасићених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потребан уно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гућст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3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лестеро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 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g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јететских влак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унос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.5 - 2 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8312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х хид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а обезбеди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е енергије, што на 3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 износи 17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угљених хидрата обезбеђује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, потребно је унети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2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угљених хид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а обезбеди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е енергије, што на 3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 износи 7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масти обезбеђује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, потребно је унети укуп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g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а обезбеди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е енергије, што на 3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 износи 6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протеина обезбеђује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, потребно је унети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5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3 – Одређивање састава дневног об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е потребне вредности хранљивих материја се распоређују у жељени број оброка, водећи рачуна о њихом садржају у појединим врстама намирни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треба проверити колико изабране намирнице задовољавају потребе за дневним уносом витамина и минерала и направити (евентуалне) корекције њиховог уно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проверити и квалитет изабраних намирница у смислу количина есенцијалних аминокиселина и есенцијалних масти, односа засићених и незасићених масних киселина, врсте угљених хидрата, количине дијететских влакана и холестерола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79280" y="333360"/>
            <a:ext cx="417852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CirilicaTime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ање дневног оброка је значајно олакшан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м седам основних група намирн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и житар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 око 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 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од меса и ј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4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умер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у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умер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iramidaishrane"/>
          <p:cNvPicPr/>
          <p:nvPr/>
        </p:nvPicPr>
        <p:blipFill>
          <a:blip r:embed="rId1"/>
          <a:stretch/>
        </p:blipFill>
        <p:spPr>
          <a:xfrm>
            <a:off x="4429080" y="642960"/>
            <a:ext cx="4535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битак телесне мас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иком мршављења не сме бити изнад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583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anoreksija_inline"/>
          <p:cNvPicPr/>
          <p:nvPr/>
        </p:nvPicPr>
        <p:blipFill>
          <a:blip r:embed="rId1"/>
          <a:stretch/>
        </p:blipFill>
        <p:spPr>
          <a:xfrm>
            <a:off x="5965920" y="2133720"/>
            <a:ext cx="2679480" cy="40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904080"/>
        </p:xfrm>
        <a:graphic>
          <a:graphicData uri="http://schemas.openxmlformats.org/drawingml/2006/table">
            <a:tbl>
              <a:tblPr/>
              <a:tblGrid>
                <a:gridCol w="738360"/>
                <a:gridCol w="730080"/>
                <a:gridCol w="633240"/>
                <a:gridCol w="636840"/>
                <a:gridCol w="636480"/>
                <a:gridCol w="549360"/>
                <a:gridCol w="738000"/>
                <a:gridCol w="738360"/>
                <a:gridCol w="738000"/>
                <a:gridCol w="633600"/>
                <a:gridCol w="636480"/>
                <a:gridCol w="636480"/>
                <a:gridCol w="549360"/>
                <a:gridCol w="549360"/>
              </a:tblGrid>
              <a:tr h="140040">
                <a:tc gridSpan="14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НИ ДНЕВНИ ОБР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82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gridSpan="7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ОБИЧАЈЕНИ ПОСНИ ДНЕВНИ ОБР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ПОРУЧЕНИ ПОСНИ ДНЕВНИ ОБР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мирн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ина 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/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теини н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ти н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љени хидрати н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мирн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ина 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/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теини н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ти н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љени хидрати н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79720">
                <a:tc rowSpan="5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руч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рдин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2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5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руч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тегрални 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6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дарај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3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сели краставц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чур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 од наранџ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5 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 од наранџ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5 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 са шећер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 са шећер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182520">
                <a:tc rowSpan="4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Јабу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шн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8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уч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адајз чор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m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ве шљив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лић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7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во грожђ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рени кромп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387360">
                <a:tc rowSpan="5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уч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ем супа од печура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0 m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,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и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р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лена сал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ар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линово уљ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m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15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к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ли л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 од јабу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385920">
                <a:tc rowSpan="3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рна чоколада 7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Џ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 са шећер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 са шећер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6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ч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уна у уљ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79720">
                <a:tc rowSpan="5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ч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брана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3,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укуруз шећера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ла ротк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зил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7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лена папр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 од јабу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d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2"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рвена папр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15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рћ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m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8000" y="1123920"/>
          <a:ext cx="8928000" cy="4680000"/>
        </p:xfrm>
        <a:graphic>
          <a:graphicData uri="http://schemas.openxmlformats.org/drawingml/2006/table">
            <a:tbl>
              <a:tblPr/>
              <a:tblGrid>
                <a:gridCol w="1114200"/>
                <a:gridCol w="559080"/>
                <a:gridCol w="558720"/>
                <a:gridCol w="557280"/>
                <a:gridCol w="558720"/>
                <a:gridCol w="557280"/>
                <a:gridCol w="558720"/>
                <a:gridCol w="1116000"/>
                <a:gridCol w="557280"/>
                <a:gridCol w="558720"/>
                <a:gridCol w="558720"/>
                <a:gridCol w="557280"/>
                <a:gridCol w="558720"/>
                <a:gridCol w="557280"/>
              </a:tblGrid>
              <a:tr h="487440">
                <a:tc gridSpan="14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7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ОБИЧАЈЕНИ ПОС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ПОРУЧЕНИ ПОС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660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купан енергетски у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теи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љени хид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купан енергетски у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те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љени хид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rowSpan="3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71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rowSpan="3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70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</a:tr>
              <a:tr h="17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5454"/>
                          </a:solidFill>
                          <a:latin typeface="Arial"/>
                          <a:ea typeface="Calibri"/>
                        </a:rPr>
                        <a:t>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5454"/>
                          </a:solidFill>
                          <a:latin typeface="Arial"/>
                          <a:ea typeface="Calibri"/>
                        </a:rPr>
                        <a:t>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5454"/>
                          </a:solidFill>
                          <a:latin typeface="Arial"/>
                          <a:ea typeface="Calibri"/>
                        </a:rPr>
                        <a:t>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5454"/>
                          </a:solidFill>
                          <a:latin typeface="Arial"/>
                          <a:ea typeface="Calibri"/>
                        </a:rPr>
                        <a:t>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5454"/>
                          </a:solidFill>
                          <a:latin typeface="Arial"/>
                          <a:ea typeface="Calibri"/>
                        </a:rPr>
                        <a:t>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5454"/>
                          </a:solidFill>
                          <a:latin typeface="Arial"/>
                          <a:ea typeface="Calibri"/>
                        </a:rPr>
                        <a:t>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И</a:t>
            </a:r>
            <a:r>
              <a:rPr b="1" lang="en-U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sr-C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СТАВЉАЊА ХРАНЉИВОГ ДНЕВНОГ ОБРОК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5143320" cy="35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blog.foodfacts.com/wp-content/uploads/2012/01/Fat_Food___Set_by_helmuc.jpg"/>
          <p:cNvPicPr/>
          <p:nvPr/>
        </p:nvPicPr>
        <p:blipFill>
          <a:blip r:embed="rId1"/>
          <a:stretch/>
        </p:blipFill>
        <p:spPr>
          <a:xfrm>
            <a:off x="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1.gstatic.com/images?q=tbn:ANd9GcQDGXu1pqmV12QogF524MIncPQTZRR4MWLuwED2VlZq5SgWVpHf"/>
          <p:cNvPicPr/>
          <p:nvPr/>
        </p:nvPicPr>
        <p:blipFill>
          <a:blip r:embed="rId2"/>
          <a:stretch/>
        </p:blipFill>
        <p:spPr>
          <a:xfrm>
            <a:off x="0" y="380520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superyoufs.com/wp-content/uploads/2012/10/healthy-food.jpg"/>
          <p:cNvPicPr/>
          <p:nvPr/>
        </p:nvPicPr>
        <p:blipFill>
          <a:blip r:embed="rId3"/>
          <a:stretch/>
        </p:blipFill>
        <p:spPr>
          <a:xfrm>
            <a:off x="4667400" y="0"/>
            <a:ext cx="447660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http://healththroughfood.ie/wp-content/uploads/2013/10/food-Healthy-Eating.jpg"/>
          <p:cNvPicPr/>
          <p:nvPr/>
        </p:nvPicPr>
        <p:blipFill>
          <a:blip r:embed="rId4"/>
          <a:stretch/>
        </p:blipFill>
        <p:spPr>
          <a:xfrm>
            <a:off x="5075280" y="3357720"/>
            <a:ext cx="4068720" cy="3500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3"/>
          <p:cNvSpPr/>
          <p:nvPr/>
        </p:nvSpPr>
        <p:spPr>
          <a:xfrm>
            <a:off x="4227840" y="3068640"/>
            <a:ext cx="8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1908000" y="32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6948360" y="3357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923160"/>
        </p:xfrm>
        <a:graphic>
          <a:graphicData uri="http://schemas.openxmlformats.org/drawingml/2006/table">
            <a:tbl>
              <a:tblPr/>
              <a:tblGrid>
                <a:gridCol w="934920"/>
                <a:gridCol w="1295640"/>
                <a:gridCol w="799920"/>
                <a:gridCol w="469800"/>
                <a:gridCol w="676440"/>
                <a:gridCol w="749160"/>
                <a:gridCol w="854280"/>
                <a:gridCol w="563400"/>
                <a:gridCol w="654120"/>
                <a:gridCol w="565200"/>
                <a:gridCol w="635040"/>
                <a:gridCol w="946080"/>
              </a:tblGrid>
              <a:tr h="755640">
                <a:tc gridSpan="1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ast-food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невни об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мир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л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куп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сти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сиће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сти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олестер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гљ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идрати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лак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Шећ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теини </a:t>
                      </a:r>
                      <a:r>
                        <a:rPr b="0" lang="sr-Latn-R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b39f"/>
                    </a:solidFill>
                  </a:tcPr>
                </a:tc>
              </a:tr>
              <a:tr h="631800"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руч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пли сендви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шунка, качкаваљ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ечап, мајон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Јогу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</a:tr>
              <a:tr h="372960"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w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 са мле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</a:tr>
              <a:tr h="277920"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уч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а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м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</a:tr>
              <a:tr h="555480"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п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лико пак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</a:tr>
              <a:tr h="27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 са мле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</a:tr>
              <a:tr h="277560">
                <a:tc rowSpan="4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еч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мф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л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ладол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4d0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ca-C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м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aa2"/>
                    </a:solidFill>
                  </a:tcPr>
                </a:tc>
              </a:tr>
              <a:tr h="747720">
                <a:tc gridSpan="3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КУП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7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7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1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743040"/>
                <a:gridCol w="1108080"/>
                <a:gridCol w="723960"/>
                <a:gridCol w="596880"/>
                <a:gridCol w="954000"/>
                <a:gridCol w="693720"/>
                <a:gridCol w="795240"/>
                <a:gridCol w="566640"/>
                <a:gridCol w="858960"/>
                <a:gridCol w="641520"/>
                <a:gridCol w="583920"/>
                <a:gridCol w="878040"/>
              </a:tblGrid>
              <a:tr h="431640">
                <a:tc gridSpan="1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обичаје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720"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мирн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купне масти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сићен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асти 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олестер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гљени хидрати 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лак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Шеће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теини 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r>
                        <a:rPr b="0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16160">
                <a:tc rowSpan="5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руч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ирш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чкава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лек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шољ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адај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ле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31560"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н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к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,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333360"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417600">
                <a:tc rowSpan="4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уч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вињс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ниц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38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омп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3,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лена са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рциј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 од наранџ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33720">
                <a:tc row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ж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Јаг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ф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415800">
                <a:tc row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еч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паге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олоњез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3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 од јабук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499320">
                <a:tc gridSpan="3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куп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09,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,2</a:t>
                      </a:r>
                      <a:r>
                        <a:rPr b="0" lang="sr-Latn-R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9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5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0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3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97120"/>
                <a:gridCol w="3749760"/>
                <a:gridCol w="269712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-food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руч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обичаје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и енергетски унос 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Cal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љени хид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55%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купног 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,15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и шећери (днев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25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ж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37,5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мушкар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%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купног 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4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купног 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сићене м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0%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г 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лестер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300 mg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13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засићене м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20% укупног 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able 6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771120" cy="70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9225000" cy="6858000"/>
        </p:xfrm>
        <a:graphic>
          <a:graphicData uri="http://schemas.openxmlformats.org/drawingml/2006/table">
            <a:tbl>
              <a:tblPr/>
              <a:tblGrid>
                <a:gridCol w="743040"/>
                <a:gridCol w="1108080"/>
                <a:gridCol w="723960"/>
                <a:gridCol w="954000"/>
                <a:gridCol w="817560"/>
                <a:gridCol w="795240"/>
                <a:gridCol w="712800"/>
                <a:gridCol w="857160"/>
                <a:gridCol w="817560"/>
                <a:gridCol w="817560"/>
                <a:gridCol w="878040"/>
              </a:tblGrid>
              <a:tr h="425520">
                <a:tc gridSpan="11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обичаје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76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ир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уч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вирш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кава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ек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шољ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адај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ж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н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409680">
                <a:tc rowSpan="4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ињс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ниц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омп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а са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циј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 од наранџ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7240">
                <a:tc row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ж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аг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409680">
                <a:tc rowSpan="2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ч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паге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оњез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 од јабук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492120">
                <a:tc gridSpan="3"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97120"/>
                <a:gridCol w="3749760"/>
                <a:gridCol w="269712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-food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триције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обичајени дневни об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 А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.д.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57720"/>
            <a:ext cx="81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 које желе да смање телесну масу ће испланирати дневни енергетски унос који ће бити мањи од енергетске потрошњ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54936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ИРАЊЕ И САСТАВЉАЊЕ ХРАНЉИВОГ ДНЕВНОГ ОБ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50920" y="2060640"/>
            <a:ext cx="866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планирања дневног оброка је да се ускла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 енергетски унос са очекиваним дневним енергетским потребама. Планирање дневног оброка представља и могућност за корекцију стања ухрање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3325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 које желе да повећају телесну масу ће испланирати дневни енергетски унос који ће бити већи од реалних енергетских потреба</a:t>
            </a:r>
            <a:br>
              <a:rPr sz="2400"/>
            </a:br>
            <a:r>
              <a:rPr b="1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700"/>
            </a:br>
            <a:r>
              <a:rPr b="1" lang="sr-Latn-CS" sz="1700" spc="-1" strike="noStrike">
                <a:solidFill>
                  <a:srgbClr val="000000"/>
                </a:solidFill>
                <a:latin typeface="CirilicaTime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572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оба случаја се препоручује да разлике између енергетског уноса и потрошње не буду велик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екцију стања ухрањености остваривати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степено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без угрожавања здрављ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143240" y="785880"/>
            <a:ext cx="4286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ног стања ухрање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 особе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г стања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 или фаза 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х потре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ја, спортисти, рекреатив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г неподношења појединих врста или облика хранљивих матер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леранција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 који постоје у окруже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г и стамбеног амб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ски усл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ено социјалног амб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ике везане за исхра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а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них могућ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228600"/>
            <a:ext cx="83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irilicaTime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састављања дневног обро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имати у виду различите подат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материјални и енергетски губитак у ток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а зависи 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85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корак у планирању дневног обро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инисање очекиваних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ергетских потре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састав хране треба да одговара потребама организма за енергиј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енергетске потр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израчунавају сабирањем 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M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MR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киване енергетске потрош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 за обављањ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их физичких активности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а одговара вредности термичког ефекта хра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д које ће бити састављен дневни обр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корак представљ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хранљивих матер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треба да омогу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енергетски ун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дневном оброку треба да су заступљен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30974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љени хидр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анче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тамини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ер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игое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3643200" y="2214720"/>
            <a:ext cx="471492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640" y="476280"/>
            <a:ext cx="8675640" cy="61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СТАВЉАЊ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ОГ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ОКА</a:t>
            </a:r>
            <a:br>
              <a:rPr sz="2400"/>
            </a:br>
            <a:br>
              <a:rPr sz="1400"/>
            </a:b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енергетске 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P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израчунавају по следећ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 = RMR + EF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за физичку 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TEF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чки ефекат хр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R = k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ефициј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ред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9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)</a:t>
            </a:r>
            <a:br>
              <a:rPr sz="2400"/>
            </a:br>
            <a:br>
              <a:rPr sz="10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а телесне 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R = 1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= 1920 kcal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br>
              <a:rPr sz="2400"/>
            </a:br>
            <a:br>
              <a:rPr sz="10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ове једноставне 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чуна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MR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цизнија мет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узима у обзир не само п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зраст и телесну ма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M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68360" y="404640"/>
          <a:ext cx="8229600" cy="5851800"/>
        </p:xfrm>
        <a:graphic>
          <a:graphicData uri="http://schemas.openxmlformats.org/drawingml/2006/table">
            <a:tbl>
              <a:tblPr/>
              <a:tblGrid>
                <a:gridCol w="990720"/>
                <a:gridCol w="1974600"/>
                <a:gridCol w="5264280"/>
              </a:tblGrid>
              <a:tr h="717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дначине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чунавање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ост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е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дначина за израчунавање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М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al/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0.9 x TM) –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2.7 x TM) +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.5 x TM) +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5.3 x TM) + 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.6 x TM) +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.5 x TM) + 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.0 x TM) – 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2.5 x TM) + 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.2 x TM) + 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4.7 x TM) + 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.7 x TM) + 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 x TM) + 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8:38:47Z</dcterms:created>
  <dc:creator>Maja</dc:creator>
  <dc:description/>
  <dc:language>en-US</dc:language>
  <cp:lastModifiedBy>korisnik</cp:lastModifiedBy>
  <dcterms:modified xsi:type="dcterms:W3CDTF">2016-11-22T09:09:36Z</dcterms:modified>
  <cp:revision>55</cp:revision>
  <dc:subject/>
  <dc:title>Енергетски метаболизам и физиологија исхране</dc:title>
</cp:coreProperties>
</file>